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5"/>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6"/>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7"/>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6EB9A-414D-4131-95BF-9EBA89F95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20880" y="746280"/>
            <a:ext cx="4965480" cy="3725640"/>
          </a:xfrm>
          <a:prstGeom prst="rect">
            <a:avLst/>
          </a:prstGeom>
          <a:ln w="0">
            <a:noFill/>
          </a:ln>
        </p:spPr>
      </p:sp>
      <p:sp>
        <p:nvSpPr>
          <p:cNvPr id="21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24535-ADB2-4224-9C44-033E21D403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D20D9-0835-44BB-850F-FF1B0A7E3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BD7F0-2A55-43B0-BAE0-B095466E8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55D2D-C907-4A47-AB09-783EA98C8B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7F066-2423-459D-A1A2-E0D5C8532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60ED16-C989-41E4-8297-85E205B258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FEA348-E17C-44F9-8BE8-5CA2F3F3D6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84C665-5206-4F26-9C2A-4084E8F9B3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0D39B1-911D-4848-AB8A-E92B743447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C82340-F42D-43EC-A529-BFE2BA269D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40905C32-95CF-4A63-98C2-0BAB27CC17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61F96B-B6D1-4285-B83B-748FABF54D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D012A-6377-441D-A1AC-12224BD0E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409BF2-9B00-4627-BA6F-C4E5F21408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EF245E-5926-4381-8D1B-C07057FB40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9254F0-5CA5-4995-9D57-CB308706A7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ED4B40-7A16-4EE5-A326-2D75241105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ACCFC9-3052-49E5-A682-D4AF14BF3D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2E340-FAE9-4D29-B879-B79AE7926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30C97-E34B-4194-9052-2FEEBFAEC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43498-30B9-4FF7-883D-48CCB9361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75C74-724B-4DCD-B79C-EFDC4BA86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25B4E-16B7-44D1-B579-76AF6215B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8A751-990A-415B-9725-32544F230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369B4-468D-4836-AEA7-5659C3FDE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A1394-7BDB-44C9-8361-44E0CC1B79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6E62D81-6602-4409-8E4B-58987DD96CC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0785F96-AEE3-4ED3-90CD-2A9ED51C8AB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49" name="Picture 7" descr=""/>
          <p:cNvPicPr/>
          <p:nvPr/>
        </p:nvPicPr>
        <p:blipFill>
          <a:blip r:embed="rId2"/>
          <a:stretch/>
        </p:blipFill>
        <p:spPr>
          <a:xfrm>
            <a:off x="7596360" y="6292800"/>
            <a:ext cx="1520640" cy="520920"/>
          </a:xfrm>
          <a:prstGeom prst="rect">
            <a:avLst/>
          </a:prstGeom>
          <a:ln w="0">
            <a:noFill/>
          </a:ln>
        </p:spPr>
      </p:pic>
      <p:sp>
        <p:nvSpPr>
          <p:cNvPr id="50"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9C3A1-1583-459F-9408-66BF0B645D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1440" y="2276640"/>
            <a:ext cx="9144000" cy="1657080"/>
          </a:xfrm>
          <a:prstGeom prst="rect">
            <a:avLst/>
          </a:prstGeom>
          <a:solidFill>
            <a:srgbClr val="00b0f0"/>
          </a:solidFill>
          <a:ln w="0">
            <a:noFill/>
          </a:ln>
        </p:spPr>
        <p:style>
          <a:lnRef idx="0"/>
          <a:fillRef idx="0"/>
          <a:effectRef idx="0"/>
          <a:fontRef idx="minor"/>
        </p:style>
        <p:txBody>
          <a:bodyPr lIns="90000" rIns="90000" tIns="46800" bIns="46800" anchor="t">
            <a:norm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800" spc="-1" strike="noStrike">
                <a:solidFill>
                  <a:srgbClr val="ffffff"/>
                </a:solidFill>
                <a:latin typeface="Arial"/>
                <a:ea typeface="Verdana"/>
              </a:rPr>
              <a:t>Identificação de Contacto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nfra-estruturas</a:t>
            </a:r>
            <a:endParaRPr b="0" lang="en-US" sz="4400" spc="-1" strike="noStrike">
              <a:solidFill>
                <a:srgbClr val="000000"/>
              </a:solidFill>
              <a:latin typeface="Arial"/>
            </a:endParaRPr>
          </a:p>
        </p:txBody>
      </p:sp>
      <p:sp>
        <p:nvSpPr>
          <p:cNvPr id="115"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Sistema de vigilância sindrómica</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Ênfase nos centros de transporte e nas fronteiras</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Quadro de Gestão de Incident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l formado para liderar a resposta</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Autoridade para tomar decisões e disponibilizar fundos</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Unidade de Tratamento do Ébola (UTE) [mínimo: 1]</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ara </a:t>
            </a:r>
            <a:r>
              <a:rPr b="1" lang="pt-PT" sz="2600" spc="-1" strike="noStrike">
                <a:solidFill>
                  <a:srgbClr val="000000"/>
                </a:solidFill>
                <a:latin typeface="Arial"/>
              </a:rPr>
              <a:t>CASOS CONFIRMADO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Locais externo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Criada utilizando orientações da OMS e MS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nfra-estruturas</a:t>
            </a:r>
            <a:endParaRPr b="0" lang="en-US" sz="4400" spc="-1" strike="noStrike">
              <a:solidFill>
                <a:srgbClr val="000000"/>
              </a:solidFill>
              <a:latin typeface="Arial"/>
            </a:endParaRPr>
          </a:p>
        </p:txBody>
      </p:sp>
      <p:sp>
        <p:nvSpPr>
          <p:cNvPr id="117" name=""/>
          <p:cNvSpPr txBox="1"/>
          <p:nvPr/>
        </p:nvSpPr>
        <p:spPr>
          <a:xfrm>
            <a:off x="38088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Unidade de Contenção/Isolamento</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solamento de </a:t>
            </a:r>
            <a:r>
              <a:rPr b="1" lang="pt-PT" sz="2200" spc="-1" strike="noStrike">
                <a:solidFill>
                  <a:srgbClr val="000000"/>
                </a:solidFill>
                <a:latin typeface="Arial"/>
              </a:rPr>
              <a:t>CASOS SUSPEITO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nfra-estruturas existe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Fornece alimentos/necessidades básica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Se houver necessidade de novo teste até 72 horas depoi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Tecnologia de Informação [não necessário]</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Programa EpiInfo VHF (CD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Gestor de Dado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Plataforma para uma fácil partilha de dado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Notificação obrigatória à OM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Serviços Laboratoriais devem ser identificado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necessitam estar no paí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Empacotamento e envio adequados das amostra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o de Hierarquia do Pessoal</a:t>
            </a:r>
            <a:endParaRPr b="0" lang="en-US" sz="4400" spc="-1" strike="noStrike">
              <a:solidFill>
                <a:srgbClr val="000000"/>
              </a:solidFill>
              <a:latin typeface="Arial"/>
            </a:endParaRPr>
          </a:p>
        </p:txBody>
      </p:sp>
      <p:pic>
        <p:nvPicPr>
          <p:cNvPr id="119" name="Diagram 3" descr=""/>
          <p:cNvPicPr/>
          <p:nvPr/>
        </p:nvPicPr>
        <p:blipFill>
          <a:blip r:embed="rId1"/>
          <a:stretch/>
        </p:blipFill>
        <p:spPr>
          <a:xfrm>
            <a:off x="1494000" y="476280"/>
            <a:ext cx="5986440" cy="3589200"/>
          </a:xfrm>
          <a:prstGeom prst="rect">
            <a:avLst/>
          </a:prstGeom>
          <a:ln w="0">
            <a:noFill/>
          </a:ln>
        </p:spPr>
      </p:pic>
      <p:sp>
        <p:nvSpPr>
          <p:cNvPr id="120" name="Straight Connector 6"/>
          <p:cNvSpPr/>
          <p:nvPr/>
        </p:nvSpPr>
        <p:spPr>
          <a:xfrm>
            <a:off x="2362320" y="3962520"/>
            <a:ext cx="2057400" cy="34272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traight Connector 8"/>
          <p:cNvSpPr/>
          <p:nvPr/>
        </p:nvSpPr>
        <p:spPr>
          <a:xfrm>
            <a:off x="1752480" y="3962520"/>
            <a:ext cx="2514600" cy="76176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2" name="Diagram 7" descr=""/>
          <p:cNvPicPr/>
          <p:nvPr/>
        </p:nvPicPr>
        <p:blipFill>
          <a:blip r:embed="rId2"/>
          <a:stretch/>
        </p:blipFill>
        <p:spPr>
          <a:xfrm>
            <a:off x="914400" y="3743280"/>
            <a:ext cx="6480000" cy="2602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quipa de Investigaçã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ntecedentes/Experiência:</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pidemiologistas, peritos em comportamento psicossocial (para problemas relacionados com estigmas e saúde mental) e peritos em comunicação da saúde (para problemas de educação e de trabalho em rede)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eriência e formação em investigar questões de identificação de contacto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Responsabilidades</a:t>
            </a:r>
            <a:r>
              <a:rPr b="0" lang="pt-PT"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trevistar um caso acerca de potenciais contacto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da se um investigador estiver preocupado com o estado de saúde de um contacto</a:t>
            </a:r>
            <a:endParaRPr b="0" lang="en-US" sz="15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Avaliar o contacto para determinar se deve ser considerado um caso de EVD</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Se o contacto estiver sintomático e, por isso, seja um caso suspeito, devem alertar o supervisor no terreno</a:t>
            </a:r>
            <a:endParaRPr b="0" lang="en-US" sz="13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da se um novo caso for identificado através de outros meios (i.e. unidade de cuidados de saúde)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Visita domiciliária para identificar todos os contacto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lertar os contactos acerca do seu estado, do procedimento da identificação de contactos e oferecer apoio</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umerar todos os contactos no </a:t>
            </a:r>
            <a:r>
              <a:rPr b="1" lang="pt-PT" sz="1500" spc="-1" strike="noStrike">
                <a:solidFill>
                  <a:srgbClr val="000000"/>
                </a:solidFill>
                <a:latin typeface="Arial"/>
              </a:rPr>
              <a:t>Formulário para a Lista de Contacto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Quantidade: </a:t>
            </a:r>
            <a:r>
              <a:rPr b="0" lang="pt-PT" sz="1800" spc="-1" strike="noStrike">
                <a:solidFill>
                  <a:srgbClr val="000000"/>
                </a:solidFill>
                <a:latin typeface="Arial"/>
              </a:rPr>
              <a:t>mínimo de duas pesso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Equipa de Resposta Rápida (ERR):</a:t>
            </a:r>
            <a:r>
              <a:rPr b="0" lang="pt-PT"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a:t>
            </a:r>
            <a:r>
              <a:rPr b="0" lang="pt-PT"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Igual à Equipa de Investigação; subgrupo da EI</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a:t>
            </a:r>
            <a:r>
              <a:rPr b="0" lang="pt-PT"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sponsável pelo primeiro caso detectado no paí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 serviço 24 horas por dia e 7 dias por semana</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a:t>
            </a:r>
            <a:r>
              <a:rPr b="0" lang="pt-PT" sz="2800" spc="-1" strike="noStrike">
                <a:solidFill>
                  <a:srgbClr val="000000"/>
                </a:solidFill>
                <a:latin typeface="Arial"/>
              </a:rPr>
              <a:t> mínimo de duas pesso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8"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pidemiologista-chefe</a:t>
            </a:r>
            <a:r>
              <a:rPr b="0" lang="en-US" sz="2700" spc="-1" strike="noStrike" u="sng">
                <a:solidFill>
                  <a:srgbClr val="000000"/>
                </a:solidFill>
                <a:uFillTx/>
                <a:latin typeface="Arial"/>
              </a:rPr>
              <a:t>:</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 </a:t>
            </a:r>
            <a:r>
              <a:rPr b="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ado na identificação de contactos a nível naciona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upervisiona todos os supervisores no terreno</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Responsabilidades:</a:t>
            </a:r>
            <a:r>
              <a:rPr b="0" lang="pt-PT"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que devem continuar a ser seguido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prioritário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que podem ser dispensados do seguime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unica com outros ramos, como a equipa de gestão de casos e a equipa de logística, quando um contacto se torna num caso suspeito</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Quantidade: </a:t>
            </a:r>
            <a:r>
              <a:rPr b="0" lang="pt-PT" sz="2400" spc="-1" strike="noStrike">
                <a:solidFill>
                  <a:srgbClr val="000000"/>
                </a:solidFill>
                <a:latin typeface="Arial"/>
              </a:rPr>
              <a:t>mínimo de uma pessoa a nível nacion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u="sng">
                <a:solidFill>
                  <a:srgbClr val="000000"/>
                </a:solidFill>
                <a:uFillTx/>
                <a:latin typeface="Arial"/>
              </a:rPr>
              <a:t>Supervisor no Terreno:</a:t>
            </a:r>
            <a:r>
              <a:rPr b="0" lang="pt-PT"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Antecedentes/Experiência:</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Um epidemiologista com experiência prévia de identificação de contactos</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Responsabilidades</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tribuir investigadores a contacto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Lidar com desafios e questões que surgem no terreno</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ctivar a equipa de investigação para um contacto sintomático</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valiar as medidas de garantia de qualidad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colher dados sobre os actuais esforços de identificação</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Quantidade</a:t>
            </a:r>
            <a:r>
              <a:rPr b="0" lang="pt-PT" sz="2600" spc="-1" strike="noStrike">
                <a:solidFill>
                  <a:srgbClr val="000000"/>
                </a:solidFill>
                <a:latin typeface="Arial"/>
              </a:rPr>
              <a:t>: um supervisor no terreno para cada 5-10 investigadore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quipa de Identificação:</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a:t>
            </a:r>
            <a:r>
              <a:rPr b="0" lang="pt-PT"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beram formação em identificação de contacto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iáveis e responsáveis, com sensibilização cultural</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Responsabilidades</a:t>
            </a:r>
            <a:r>
              <a:rPr b="0" lang="pt-PT"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Visitar os contactos todos os dias durante 21 dia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r / perguntar sobre o estado de saúde do contacto</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Organizar as equipas de identificação por áreas geográficas pode maximizar a eficácia</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Inclui investigadores das comunidades específicas ou vizinhas para aumentar a aceitabilidade das actividades de identificação de contactos entre os residentes da comunidade</a:t>
            </a:r>
            <a:endParaRPr b="0" lang="en-US" sz="1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Quantidade:</a:t>
            </a:r>
            <a:r>
              <a:rPr b="0" lang="pt-PT" sz="2400" spc="-1" strike="noStrike">
                <a:solidFill>
                  <a:srgbClr val="000000"/>
                </a:solidFill>
                <a:latin typeface="Arial"/>
              </a:rPr>
              <a:t> pelo menos dois investigadores atribuídos a cada equipa</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1 equipa deve observar 10-20 contactos por dia, ou mais, dependendo do loc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4" name=""/>
          <p:cNvSpPr txBox="1"/>
          <p:nvPr/>
        </p:nvSpPr>
        <p:spPr>
          <a:xfrm>
            <a:off x="457200" y="1197000"/>
            <a:ext cx="8229600" cy="49291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Gestor de Dados:</a:t>
            </a:r>
            <a:r>
              <a:rPr b="0" lang="pt-PT" sz="3200" spc="-1" strike="noStrike">
                <a:solidFill>
                  <a:srgbClr val="000000"/>
                </a:solidFill>
                <a:latin typeface="Arial"/>
              </a:rPr>
              <a:t> </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a:t>
            </a:r>
            <a:r>
              <a:rPr b="0" lang="pt-PT" sz="2800" spc="-1" strike="noStrike">
                <a:solidFill>
                  <a:srgbClr val="000000"/>
                </a:solidFill>
                <a:latin typeface="Arial"/>
              </a:rPr>
              <a:t> </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xperiência prévia em gestão de dados e competências informáticas proficientes</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hecimento da base de dados VHF EpiInfo</a:t>
            </a:r>
            <a:endParaRPr b="0" lang="en-US" sz="2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 </a:t>
            </a:r>
            <a:r>
              <a:rPr b="1" lang="pt-PT" sz="2800" spc="-1" strike="noStrike">
                <a:solidFill>
                  <a:srgbClr val="000000"/>
                </a:solidFill>
                <a:latin typeface="Arial"/>
              </a:rPr>
              <a:t>	</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ssegurar que todos os dados são introduzidos electronicamente</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nviar relatórios ao epidemiologista-chefe e à OMS</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upervisionar quem faz a introdução dos dados</a:t>
            </a:r>
            <a:endParaRPr b="0" lang="en-US" sz="2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 </a:t>
            </a:r>
            <a:r>
              <a:rPr b="0" lang="pt-PT" sz="2800" spc="-1" strike="noStrike">
                <a:solidFill>
                  <a:srgbClr val="000000"/>
                </a:solidFill>
                <a:latin typeface="Arial"/>
              </a:rPr>
              <a:t>mínimo de uma pessoa</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36"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u="sng">
                <a:solidFill>
                  <a:srgbClr val="000000"/>
                </a:solidFill>
                <a:uFillTx/>
                <a:latin typeface="Arial"/>
              </a:rPr>
              <a:t>Equipa de Transportes:</a:t>
            </a:r>
            <a:r>
              <a:rPr b="0" lang="pt-PT"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Antecedentes/Experiência:</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mpreender o terreno e a geografia</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alizaram formação de prevenção e controlo de infecções</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Responsabilidades</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ransportar casos suspeitos e casos confirmados identificados para as unidades de isolamento e para as UTE</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Equipada com um veículo de transporte que pode lidar com as precauções relativamente a gotículas e permite a desinfecção</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Quantidade: </a:t>
            </a:r>
            <a:r>
              <a:rPr b="0" lang="pt-PT" sz="2600" spc="-1" strike="noStrike">
                <a:solidFill>
                  <a:srgbClr val="000000"/>
                </a:solidFill>
                <a:latin typeface="Arial"/>
              </a:rPr>
              <a:t>mínimo de três pessoas numa equipa</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2 para o transporte; 1 conduto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bjectivos de Aprendizagem</a:t>
            </a:r>
            <a:endParaRPr b="0" lang="en-US" sz="44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Objectivo Geral – os participantes deverão dominar a identificação de contactos como uma parte integrante do controlo eficaz da doença do vírus do Ébola (EVD).</a:t>
            </a:r>
            <a:endParaRPr b="0" lang="en-US" sz="25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1 – Aprender definições relacionadas com casos e contactos de doentes com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2 – Compreender como se preparar para a identificação de contactos relacionados com a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3 – Compreender a implementação da identificação de contactos relacionados com a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4 – Compreender a gestão da identificação de contactos</a:t>
            </a:r>
            <a:endParaRPr b="0" lang="en-US" sz="2300" spc="-1" strike="noStrike">
              <a:solidFill>
                <a:srgbClr val="000000"/>
              </a:solidFill>
              <a:latin typeface="Arial"/>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Objectivo Intermédio 5 – Rever a forma de manter a garantia de qualidade durante a identificação de contactos relacionados com a EV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3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quipa de Desinfecção</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embros da comunidad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uncionários ou sanitaristas da saúde ambiental</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beram a formação sobre o controlo da infecção do Ébola</a:t>
            </a:r>
            <a:endParaRPr b="0" lang="en-US" sz="20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700" spc="-1" strike="noStrike">
                <a:solidFill>
                  <a:srgbClr val="000000"/>
                </a:solidFill>
                <a:latin typeface="Arial"/>
              </a:rPr>
              <a:t>Responsabilidades:</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sinfecção d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Locais onde se encontravam casos prováveis, suspeitos e confirmados, locais onde ocorreu a identificação inicial e/ou locais de enterro [depend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sinfecção dos veículos de transporte</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Coordenar com a equipa de transportes</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Devem seguir as orientações da OMS e do CDC</a:t>
            </a:r>
            <a:endParaRPr b="0" lang="en-US" sz="1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700" spc="-1" strike="noStrike">
                <a:solidFill>
                  <a:srgbClr val="000000"/>
                </a:solidFill>
                <a:latin typeface="Arial"/>
              </a:rPr>
              <a:t>Quantidade</a:t>
            </a:r>
            <a:r>
              <a:rPr b="0" lang="pt-PT" sz="2700" spc="-1" strike="noStrike">
                <a:solidFill>
                  <a:srgbClr val="000000"/>
                </a:solidFill>
                <a:latin typeface="Arial"/>
              </a:rPr>
              <a:t>: mínimo de dois membros por equipa</a:t>
            </a:r>
            <a:endParaRPr b="0" lang="en-US" sz="2700" spc="-1" strike="noStrike">
              <a:solidFill>
                <a:srgbClr val="000000"/>
              </a:solidFill>
              <a:latin typeface="Arial"/>
            </a:endParaRPr>
          </a:p>
          <a:p>
            <a:pPr lvl="1" marL="743040" indent="-2858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40" name=""/>
          <p:cNvSpPr txBox="1"/>
          <p:nvPr/>
        </p:nvSpPr>
        <p:spPr>
          <a:xfrm>
            <a:off x="457200" y="1197000"/>
            <a:ext cx="8229600" cy="49291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Equipa de Enterros:</a:t>
            </a:r>
            <a:r>
              <a:rPr b="0" lang="pt-PT" sz="3200" spc="-1" strike="noStrike">
                <a:solidFill>
                  <a:srgbClr val="000000"/>
                </a:solidFill>
                <a:latin typeface="Arial"/>
              </a:rPr>
              <a:t> </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 </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mbros da comunidade</a:t>
            </a:r>
            <a:endParaRPr b="0" lang="en-US" sz="24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mbientalistas</a:t>
            </a:r>
            <a:endParaRPr b="0" lang="en-US" sz="24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eberam a formação sobre o controlo da infecção do Ébola</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nterrar os casos prováveis, suspeitos e confirmados falecidos, assim como os contactos</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 </a:t>
            </a:r>
            <a:r>
              <a:rPr b="0" lang="pt-PT" sz="2800" spc="-1" strike="noStrike">
                <a:solidFill>
                  <a:srgbClr val="000000"/>
                </a:solidFill>
                <a:latin typeface="Arial"/>
              </a:rPr>
              <a:t>uma equipa de pelo menos 6 pessoas</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4 para carregar o corpo, 1 para desinfectar o corpo e 1 condu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Recursos</a:t>
            </a:r>
            <a:endParaRPr b="0" lang="en-US" sz="4400" spc="-1" strike="noStrike">
              <a:solidFill>
                <a:srgbClr val="000000"/>
              </a:solidFill>
              <a:latin typeface="Arial"/>
            </a:endParaRPr>
          </a:p>
        </p:txBody>
      </p:sp>
      <p:graphicFrame>
        <p:nvGraphicFramePr>
          <p:cNvPr id="142" name=""/>
          <p:cNvGraphicFramePr/>
          <p:nvPr/>
        </p:nvGraphicFramePr>
        <p:xfrm>
          <a:off x="587520" y="1125360"/>
          <a:ext cx="8099280" cy="5402520"/>
        </p:xfrm>
        <a:graphic>
          <a:graphicData uri="http://schemas.openxmlformats.org/drawingml/2006/table">
            <a:tbl>
              <a:tblPr/>
              <a:tblGrid>
                <a:gridCol w="1672920"/>
                <a:gridCol w="1119240"/>
                <a:gridCol w="760680"/>
                <a:gridCol w="869760"/>
                <a:gridCol w="768240"/>
                <a:gridCol w="648000"/>
                <a:gridCol w="838080"/>
                <a:gridCol w="812880"/>
                <a:gridCol w="609480"/>
              </a:tblGrid>
              <a:tr h="19260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Equipa de Identificação de Contacto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Outras Equipa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076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pidemiologista-chefe</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Supervisor no Terren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Investiga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Identifica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Gestor de Dado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Transportes</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Desinfec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Enterro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Equipamento de Protecção Pessoal</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Luvas descartávei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Bata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Protecção Facial (ou ócul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áscara Facial N95/FFP2</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áscara cirúrgica para o cas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Sacos de plástico para riscos biológic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Tecnologia de Informaçã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Sistema de Posicionamento Mundial </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Telemóveis (com carregament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Computadore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Ferramentas de Recolha de Dados Electrónic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Equipamento no Terren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Termómetr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ateriais de Escritóri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Formulários Apropriad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Transporte</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3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r h="1980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Condutor/Carr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Financiamento</a:t>
            </a:r>
            <a:endParaRPr b="0" lang="en-US" sz="4400" spc="-1" strike="noStrike">
              <a:solidFill>
                <a:srgbClr val="000000"/>
              </a:solidFill>
              <a:latin typeface="Arial"/>
            </a:endParaRPr>
          </a:p>
        </p:txBody>
      </p:sp>
      <p:sp>
        <p:nvSpPr>
          <p:cNvPr id="14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Ordenado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pidemiologista-chef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upervisores no Terren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Investigador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Gestor de Dad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erito psicossoci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dutor (se utilizado)</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quipamento (incluindo diapositivo dos recurso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usto do carregamento dos telemóvei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ulários de impressã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Higienizador de mão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Transporte</a:t>
            </a:r>
            <a:r>
              <a:rPr b="0" lang="pt-PT" sz="2200" spc="-1" strike="noStrike">
                <a:solidFill>
                  <a:srgbClr val="000000"/>
                </a:solidFill>
                <a:latin typeface="Arial"/>
              </a:rPr>
              <a:t> (para supervisores no terreno, investigadores e equipa de investigação)</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Táxis (se utilizad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bustível se forem utilizados veículos própri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IMPLEMENTAÇÃO</a:t>
            </a:r>
            <a:endParaRPr b="0" lang="en-US" sz="4000" spc="-1" strike="noStrike">
              <a:solidFill>
                <a:srgbClr val="000000"/>
              </a:solidFill>
              <a:latin typeface="Arial"/>
            </a:endParaRPr>
          </a:p>
        </p:txBody>
      </p:sp>
      <p:sp>
        <p:nvSpPr>
          <p:cNvPr id="14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Fluxograma</a:t>
            </a:r>
            <a:endParaRPr b="0" lang="en-US" sz="4400" spc="-1" strike="noStrike">
              <a:solidFill>
                <a:srgbClr val="000000"/>
              </a:solidFill>
              <a:latin typeface="Arial"/>
            </a:endParaRPr>
          </a:p>
        </p:txBody>
      </p:sp>
      <p:pic>
        <p:nvPicPr>
          <p:cNvPr id="148" name="Picture 3" descr=""/>
          <p:cNvPicPr/>
          <p:nvPr/>
        </p:nvPicPr>
        <p:blipFill>
          <a:blip r:embed="rId1"/>
          <a:stretch/>
        </p:blipFill>
        <p:spPr>
          <a:xfrm>
            <a:off x="1905120" y="1143000"/>
            <a:ext cx="5637240" cy="556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dentificação de Contactos</a:t>
            </a:r>
            <a:endParaRPr b="0" lang="en-US" sz="4400" spc="-1" strike="noStrike">
              <a:solidFill>
                <a:srgbClr val="000000"/>
              </a:solidFill>
              <a:latin typeface="Arial"/>
            </a:endParaRPr>
          </a:p>
        </p:txBody>
      </p:sp>
      <p:sp>
        <p:nvSpPr>
          <p:cNvPr id="150" name=""/>
          <p:cNvSpPr txBox="1"/>
          <p:nvPr/>
        </p:nvSpPr>
        <p:spPr>
          <a:xfrm>
            <a:off x="457200" y="1197000"/>
            <a:ext cx="8229600" cy="49291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Quando um caso suspeito, provável ou confirmado é inicialmente detectado, a ERR é activada</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Todos os contactos devem ser identificados</a:t>
            </a:r>
            <a:endParaRPr b="0" lang="en-US" sz="28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Questões pertinentes para o caso</a:t>
            </a:r>
            <a:endParaRPr b="0" lang="en-US" sz="2400" spc="-1" strike="noStrike">
              <a:solidFill>
                <a:srgbClr val="000000"/>
              </a:solidFill>
              <a:latin typeface="Arial"/>
            </a:endParaRPr>
          </a:p>
          <a:p>
            <a:pPr lvl="3" marL="144000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 directa [com o caso vivo]</a:t>
            </a:r>
            <a:endParaRPr b="0" lang="en-US" sz="2000" spc="-1" strike="noStrike">
              <a:solidFill>
                <a:srgbClr val="000000"/>
              </a:solidFill>
              <a:latin typeface="Arial"/>
            </a:endParaRPr>
          </a:p>
          <a:p>
            <a:pPr lvl="3" marL="144000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utópsia verbal [com o caso morto]</a:t>
            </a:r>
            <a:endParaRPr b="0" lang="en-US" sz="20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Visita domiciliária e à comunidade</a:t>
            </a:r>
            <a:endParaRPr b="0" lang="en-US" sz="24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NOTA: podem ser necessárias várias entrevistas ao caso</a:t>
            </a:r>
            <a:endParaRPr b="0" lang="en-US" sz="24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reencher o </a:t>
            </a:r>
            <a:r>
              <a:rPr b="1" lang="pt-PT" sz="2800" spc="-1" strike="noStrike">
                <a:solidFill>
                  <a:srgbClr val="000000"/>
                </a:solidFill>
                <a:latin typeface="Arial"/>
              </a:rPr>
              <a:t>Formulário para a Lista de Contac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2"/>
          <p:cNvSpPr/>
          <p:nvPr/>
        </p:nvSpPr>
        <p:spPr>
          <a:xfrm>
            <a:off x="1856160" y="5157720"/>
            <a:ext cx="660456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rPr>
              <a:t>* Tipos de Contact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1 = Tocou em fluídos corporais do doente (sangue, vómito, saliva, urina, fezes, esperma, su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2 = Teve contacto físico directo com o corpo do doente (vivo ou mor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3 = Tocou ou limpou os lençóis, vestuários ou louça do doen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4 = Dormiu ou comeu na mesma casa que o doente</a:t>
            </a:r>
            <a:endParaRPr b="0" lang="en-US" sz="1200" spc="-1" strike="noStrike">
              <a:solidFill>
                <a:srgbClr val="000000"/>
              </a:solidFill>
              <a:latin typeface="Arial"/>
            </a:endParaRPr>
          </a:p>
        </p:txBody>
      </p:sp>
      <p:sp>
        <p:nvSpPr>
          <p:cNvPr id="152" name="TextBox 3"/>
          <p:cNvSpPr/>
          <p:nvPr/>
        </p:nvSpPr>
        <p:spPr>
          <a:xfrm>
            <a:off x="1246680" y="25560"/>
            <a:ext cx="674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ORMULÁRIO PARA A LISTA DE CONTACTOS COM ÉBOLA</a:t>
            </a:r>
            <a:endParaRPr b="0" lang="en-US" sz="1800" spc="-1" strike="noStrike">
              <a:solidFill>
                <a:srgbClr val="000000"/>
              </a:solidFill>
              <a:latin typeface="Arial"/>
            </a:endParaRPr>
          </a:p>
        </p:txBody>
      </p:sp>
      <p:graphicFrame>
        <p:nvGraphicFramePr>
          <p:cNvPr id="153" name="Object 4"/>
          <p:cNvGraphicFramePr/>
          <p:nvPr/>
        </p:nvGraphicFramePr>
        <p:xfrm>
          <a:off x="222120" y="425520"/>
          <a:ext cx="8810640" cy="5748120"/>
        </p:xfrm>
        <a:graphic>
          <a:graphicData uri="http://schemas.openxmlformats.org/presentationml/2006/ole">
            <p:oleObj r:id="rId1" spid="">
              <p:embed/>
              <p:pic>
                <p:nvPicPr>
                  <p:cNvPr id="154" name="Object 4" descr=""/>
                  <p:cNvPicPr/>
                  <p:nvPr/>
                </p:nvPicPr>
                <p:blipFill>
                  <a:blip r:embed="rId2"/>
                  <a:stretch/>
                </p:blipFill>
                <p:spPr>
                  <a:xfrm>
                    <a:off x="222120" y="425520"/>
                    <a:ext cx="8810640" cy="57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Lista de Contactos</a:t>
            </a:r>
            <a:endParaRPr b="0" lang="en-US" sz="4400" spc="-1" strike="noStrike">
              <a:solidFill>
                <a:srgbClr val="000000"/>
              </a:solidFill>
              <a:latin typeface="Arial"/>
            </a:endParaRPr>
          </a:p>
        </p:txBody>
      </p:sp>
      <p:sp>
        <p:nvSpPr>
          <p:cNvPr id="156" name=""/>
          <p:cNvSpPr txBox="1"/>
          <p:nvPr/>
        </p:nvSpPr>
        <p:spPr>
          <a:xfrm>
            <a:off x="456840" y="1600200"/>
            <a:ext cx="838188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Contactos entrevistados pela equipa de investigação</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rguntar a última data de contacto com o caso</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Se houver discrepância, utilizar a data mais recente</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Determinar o estado de exposição</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t>
            </a:r>
            <a:r>
              <a:rPr b="0" lang="pt-PT" sz="2200" spc="-1" strike="noStrike">
                <a:solidFill>
                  <a:srgbClr val="000000"/>
                </a:solidFill>
                <a:latin typeface="Arial"/>
              </a:rPr>
              <a:t>Elevado’, ‘baixo’, ou ‘sem risco’</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Pessoas de Risco ‘Elevado” e ‘Baixo’ irão necessitar de seguimento</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Contactos assintomáticos podem continuar com as suas actividades diárias se tiverem um acesso atempado a instalações de cuidados de saúde caso fiquem doentes</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Depois de ser considerado um caso…</a:t>
            </a:r>
            <a:endParaRPr b="0" lang="en-US" sz="4000" spc="-1" strike="noStrike">
              <a:solidFill>
                <a:srgbClr val="000000"/>
              </a:solidFill>
              <a:latin typeface="Arial"/>
            </a:endParaRPr>
          </a:p>
        </p:txBody>
      </p:sp>
      <p:sp>
        <p:nvSpPr>
          <p:cNvPr id="15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ve ocorrer o seguin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O contacto é notificado do seu estad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É explicado o procedimento de seguimen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ducar acerca da EV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informações de contacto para a equipa de identificação</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ar-lhes instruções para notificarem a equipa se se mudarem ou deixarem a área geográfica</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DEFINIÇÕES</a:t>
            </a:r>
            <a:endParaRPr b="0" lang="en-US" sz="4000" spc="-1" strike="noStrike">
              <a:solidFill>
                <a:srgbClr val="000000"/>
              </a:solidFill>
              <a:latin typeface="Arial"/>
            </a:endParaRPr>
          </a:p>
        </p:txBody>
      </p:sp>
      <p:sp>
        <p:nvSpPr>
          <p:cNvPr id="10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Se um contacto ficar doen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0" name=""/>
          <p:cNvSpPr txBox="1"/>
          <p:nvPr/>
        </p:nvSpPr>
        <p:spPr>
          <a:xfrm>
            <a:off x="457200" y="1197000"/>
            <a:ext cx="8229600" cy="49291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 estado é alterado para </a:t>
            </a:r>
            <a:r>
              <a:rPr b="1" lang="pt-PT" sz="3200" spc="-1" strike="noStrike">
                <a:solidFill>
                  <a:srgbClr val="000000"/>
                </a:solidFill>
                <a:latin typeface="Arial"/>
              </a:rPr>
              <a:t>CASO SUSPEITO</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equipa de investigação contacta o supervisor no terreno</a:t>
            </a:r>
            <a:endParaRPr b="0" lang="en-US" sz="32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São activadas as equipas de transportes e desinfecção</a:t>
            </a:r>
            <a:endParaRPr b="0" lang="en-US" sz="28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Transportado para uma unidade de isolamento para ser analisado</a:t>
            </a:r>
            <a:endParaRPr b="0" lang="en-US" sz="3200" spc="-1" strike="noStrike">
              <a:solidFill>
                <a:srgbClr val="000000"/>
              </a:solidFill>
              <a:latin typeface="Arial"/>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Arial"/>
              </a:rPr>
              <a:t>**É necessário iniciar a identificação de contactos e listar os contactos para este novo caso</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Seguimento do Contacto</a:t>
            </a:r>
            <a:endParaRPr b="0" lang="en-US" sz="4400" spc="-1" strike="noStrike">
              <a:solidFill>
                <a:srgbClr val="000000"/>
              </a:solidFill>
              <a:latin typeface="Arial"/>
            </a:endParaRPr>
          </a:p>
        </p:txBody>
      </p:sp>
      <p:sp>
        <p:nvSpPr>
          <p:cNvPr id="162" name=""/>
          <p:cNvSpPr txBox="1"/>
          <p:nvPr/>
        </p:nvSpPr>
        <p:spPr>
          <a:xfrm>
            <a:off x="457200" y="1197000"/>
            <a:ext cx="8229600" cy="49291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Visitas diárias da equipa de identificação durante 21 dias</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Local e hora pré-determinado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 preferência, a mesma equipa durante todo o tempo</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ssegura uma continuidade e confiança</a:t>
            </a:r>
            <a:endParaRPr b="0"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Identifica nuances da rotina diária do contacto</a:t>
            </a:r>
            <a:endParaRPr b="0" lang="en-US" sz="2000" spc="-1" strike="noStrike">
              <a:solidFill>
                <a:srgbClr val="000000"/>
              </a:solidFill>
              <a:latin typeface="Arial"/>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alguns contactos não forem encontrados, devem ser notificados ao supervisor no terreno</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gistar esta informação no </a:t>
            </a:r>
            <a:r>
              <a:rPr b="1" lang="pt-PT" sz="2400" spc="-1" strike="noStrike">
                <a:solidFill>
                  <a:srgbClr val="000000"/>
                </a:solidFill>
                <a:latin typeface="Arial"/>
              </a:rPr>
              <a:t>Formulário de Resumo da Identificação</a:t>
            </a:r>
            <a:endParaRPr b="0" lang="en-US" sz="2400" spc="-1" strike="noStrike">
              <a:solidFill>
                <a:srgbClr val="000000"/>
              </a:solidFill>
              <a:latin typeface="Arial"/>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O Supervisor no Terreno notifica: </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Gestor de Dado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Epidemiologista-che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115560"/>
            <a:ext cx="9036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Formulário de Resumo da Identificação (para os Supervisores no Terreno</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164" name="Picture 3" descr=""/>
          <p:cNvPicPr/>
          <p:nvPr/>
        </p:nvPicPr>
        <p:blipFill>
          <a:blip r:embed="rId1"/>
          <a:stretch/>
        </p:blipFill>
        <p:spPr>
          <a:xfrm>
            <a:off x="1828800" y="1125360"/>
            <a:ext cx="5413320" cy="5040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Cenários da Visita Diária</a:t>
            </a:r>
            <a:endParaRPr b="0" lang="en-US" sz="4000" spc="-1" strike="noStrike">
              <a:solidFill>
                <a:srgbClr val="000000"/>
              </a:solidFill>
              <a:latin typeface="Arial"/>
            </a:endParaRPr>
          </a:p>
        </p:txBody>
      </p:sp>
      <p:pic>
        <p:nvPicPr>
          <p:cNvPr id="166" name="Content Placeholder 2" descr=""/>
          <p:cNvPicPr/>
          <p:nvPr/>
        </p:nvPicPr>
        <p:blipFill>
          <a:blip r:embed="rId1"/>
          <a:stretch/>
        </p:blipFill>
        <p:spPr>
          <a:xfrm>
            <a:off x="371520" y="1073160"/>
            <a:ext cx="8315280" cy="5052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Novas advertências de casos suspeitos</a:t>
            </a:r>
            <a:endParaRPr b="0" lang="en-US" sz="4400" spc="-1" strike="noStrike">
              <a:solidFill>
                <a:srgbClr val="000000"/>
              </a:solidFill>
              <a:latin typeface="Arial"/>
            </a:endParaRPr>
          </a:p>
        </p:txBody>
      </p:sp>
      <p:sp>
        <p:nvSpPr>
          <p:cNvPr id="16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estiver doente há mais de 3 dias:</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tinua em isolamento até à repetição do teste no 3º dia</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testar </a:t>
            </a:r>
            <a:r>
              <a:rPr b="1" lang="pt-PT" sz="2700" spc="-1" strike="noStrike">
                <a:solidFill>
                  <a:srgbClr val="000000"/>
                </a:solidFill>
                <a:latin typeface="Arial"/>
              </a:rPr>
              <a:t>POSITIVO</a:t>
            </a:r>
            <a:r>
              <a:rPr b="0" lang="pt-PT" sz="2700" spc="-1" strike="noStrike">
                <a:solidFill>
                  <a:srgbClr val="000000"/>
                </a:solidFill>
                <a:latin typeface="Arial"/>
              </a:rPr>
              <a:t>:</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É agora classificado como CASO CONFIRMAD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ransportado para a UT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 equipa de investigação continua com a identificação de contactos deste caso</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testar </a:t>
            </a:r>
            <a:r>
              <a:rPr b="1" lang="pt-PT" sz="2700" spc="-1" strike="noStrike">
                <a:solidFill>
                  <a:srgbClr val="000000"/>
                </a:solidFill>
                <a:latin typeface="Arial"/>
              </a:rPr>
              <a:t>NEGATIVO</a:t>
            </a:r>
            <a:r>
              <a:rPr b="0" lang="pt-PT" sz="2700" spc="-1" strike="noStrike">
                <a:solidFill>
                  <a:srgbClr val="000000"/>
                </a:solidFill>
                <a:latin typeface="Arial"/>
              </a:rPr>
              <a:t>:</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lassificado como um contact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tinua com o processo anterior de seguimento de 21 dia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9" name=""/>
          <p:cNvGraphicFramePr/>
          <p:nvPr/>
        </p:nvGraphicFramePr>
        <p:xfrm>
          <a:off x="179280" y="2492280"/>
          <a:ext cx="8502840" cy="3672000"/>
        </p:xfrm>
        <a:graphic>
          <a:graphicData uri="http://schemas.openxmlformats.org/drawingml/2006/table">
            <a:tbl>
              <a:tblPr/>
              <a:tblGrid>
                <a:gridCol w="874800"/>
                <a:gridCol w="361800"/>
                <a:gridCol w="363600"/>
                <a:gridCol w="363600"/>
                <a:gridCol w="363600"/>
                <a:gridCol w="363600"/>
                <a:gridCol w="363600"/>
                <a:gridCol w="363240"/>
                <a:gridCol w="362160"/>
                <a:gridCol w="363600"/>
                <a:gridCol w="363600"/>
                <a:gridCol w="363240"/>
                <a:gridCol w="363600"/>
                <a:gridCol w="362160"/>
                <a:gridCol w="363240"/>
                <a:gridCol w="363600"/>
                <a:gridCol w="363600"/>
                <a:gridCol w="363600"/>
                <a:gridCol w="361800"/>
                <a:gridCol w="363600"/>
                <a:gridCol w="363600"/>
                <a:gridCol w="363600"/>
              </a:tblGrid>
              <a:tr h="19044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at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Febre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Indisposição</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musculare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de cabeç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de gargant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Vómito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iarrei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Erupção cutâne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Hemorragia (sangramento não explicado)</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0" name="TextBox 2"/>
          <p:cNvSpPr/>
          <p:nvPr/>
        </p:nvSpPr>
        <p:spPr>
          <a:xfrm>
            <a:off x="455400" y="1197000"/>
            <a:ext cx="9573120" cy="11750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Nome: _______________________________________        Sexo:_______      Idade:  _______          Data do último contacto (dd/mm/aa): ___________________  </a:t>
            </a:r>
            <a:endParaRPr b="0" lang="en-US" sz="1000" spc="-1" strike="noStrike">
              <a:solidFill>
                <a:srgbClr val="000000"/>
              </a:solidFill>
              <a:latin typeface="Arial"/>
            </a:endParaRPr>
          </a:p>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Morada:______________________________________        Telefone:_______________________</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Instruções: Para cada dia, avaliar o contacto para os sintomas seguintes e escrever “sim” se o contacto possuir o sintoma e “não” se o contacto não possuir o sintoma.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Se o contacto possuir algum dos sintomas, chamar imediatamente o departamento de saúde pública através do número XXX-XXX-XXXX. </a:t>
            </a:r>
            <a:endParaRPr b="0" lang="en-US" sz="1000" spc="-1" strike="noStrike">
              <a:solidFill>
                <a:srgbClr val="000000"/>
              </a:solidFill>
              <a:latin typeface="Arial"/>
            </a:endParaRPr>
          </a:p>
        </p:txBody>
      </p:sp>
      <p:sp>
        <p:nvSpPr>
          <p:cNvPr id="171" name="Title 1"/>
          <p:cNvSpPr/>
          <p:nvPr/>
        </p:nvSpPr>
        <p:spPr>
          <a:xfrm>
            <a:off x="108000" y="-27000"/>
            <a:ext cx="8928000" cy="1143000"/>
          </a:xfrm>
          <a:prstGeom prst="rect">
            <a:avLst/>
          </a:prstGeom>
          <a:noFill/>
          <a:ln w="0">
            <a:noFill/>
          </a:ln>
        </p:spPr>
        <p:style>
          <a:lnRef idx="0"/>
          <a:fillRef idx="0"/>
          <a:effectRef idx="0"/>
          <a:fontRef idx="minor"/>
        </p:style>
        <p:txBody>
          <a:bodyPr lIns="90000" rIns="90000" tIns="46800" bIns="46800" anchor="t">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Formulário de Seguimento Diário dos Contacto (para os Investigado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Alta do Contacto</a:t>
            </a:r>
            <a:endParaRPr b="0" lang="en-US" sz="4400" spc="-1" strike="noStrike">
              <a:solidFill>
                <a:srgbClr val="000000"/>
              </a:solidFill>
              <a:latin typeface="Arial"/>
            </a:endParaRPr>
          </a:p>
        </p:txBody>
      </p:sp>
      <p:sp>
        <p:nvSpPr>
          <p:cNvPr id="17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os seguintes critérios forem satisfeitos ao 21º dia, o contacto recebe alta do processo de identificaçã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am realizados 21 dias de seguimento por parte da equipa de contac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O contacto foi avaliado ao 21º di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não estiver disponível, a alta não pode ocorrer até que o contacto seja avali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Resumo dos Passos</a:t>
            </a:r>
            <a:br>
              <a:rPr sz="4000"/>
            </a:br>
            <a:r>
              <a:rPr b="0" lang="pt-PT" sz="4000" spc="-1" strike="noStrike">
                <a:solidFill>
                  <a:srgbClr val="000000"/>
                </a:solidFill>
                <a:latin typeface="Arial"/>
              </a:rPr>
              <a:t>(Guia Passo a Passo)</a:t>
            </a:r>
            <a:endParaRPr b="0" lang="en-US" sz="4000" spc="-1" strike="noStrike">
              <a:solidFill>
                <a:srgbClr val="000000"/>
              </a:solidFill>
              <a:latin typeface="Arial"/>
            </a:endParaRPr>
          </a:p>
        </p:txBody>
      </p:sp>
      <p:sp>
        <p:nvSpPr>
          <p:cNvPr id="17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u="sng">
                <a:solidFill>
                  <a:srgbClr val="000000"/>
                </a:solidFill>
                <a:uFillTx/>
                <a:latin typeface="Arial"/>
              </a:rPr>
              <a:t>Identificação Inicial do Cas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caso de Ébola é identificado pelo sistema de vigilânci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é activad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entrevista o caso utilizando o </a:t>
            </a:r>
            <a:r>
              <a:rPr b="1" lang="pt-PT" sz="1800" spc="-1" strike="noStrike">
                <a:solidFill>
                  <a:srgbClr val="000000"/>
                </a:solidFill>
                <a:latin typeface="Arial"/>
              </a:rPr>
              <a:t>Questionário de Contactos do Caso de Doença do Vírus do Ébola </a:t>
            </a:r>
            <a:r>
              <a:rPr b="0" lang="pt-PT" sz="1800" spc="-1" strike="noStrike">
                <a:solidFill>
                  <a:srgbClr val="000000"/>
                </a:solidFill>
                <a:latin typeface="Arial"/>
              </a:rPr>
              <a:t>e realiza uma visita domiciliária para determinar a lista de contact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reúne-se com cada um dos contactos e realiza o seguint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valia o estado de saúde do contac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lerta o contacto para o seu estad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trevista o contacto com o </a:t>
            </a:r>
            <a:r>
              <a:rPr b="1" lang="pt-PT" sz="1500" spc="-1" strike="noStrike">
                <a:solidFill>
                  <a:srgbClr val="000000"/>
                </a:solidFill>
                <a:latin typeface="Arial"/>
              </a:rPr>
              <a:t>Questionário de Contactos do Caso de Doença do Vírus do É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lica o procedimento de ser acompanhado diariamente durante 21 dia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valia o risco de fuga do indivídu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Identifica um local e hora apropriados para uma reunião com o contac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Prepara o </a:t>
            </a:r>
            <a:r>
              <a:rPr b="1" lang="pt-PT" sz="1500" spc="-1" strike="noStrike">
                <a:solidFill>
                  <a:srgbClr val="000000"/>
                </a:solidFill>
                <a:latin typeface="Arial"/>
              </a:rPr>
              <a:t>Formulário para a Lista de Contactos</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epidemiologista-chefe distribui supervisores no terreno com base na distribuição geográfica dos contac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Resumo dos Passos: DIARIAMENTE</a:t>
            </a:r>
            <a:br>
              <a:rPr sz="4000"/>
            </a:br>
            <a:r>
              <a:rPr b="0" lang="pt-PT" sz="4000" spc="-1" strike="noStrike">
                <a:solidFill>
                  <a:srgbClr val="000000"/>
                </a:solidFill>
                <a:latin typeface="Arial"/>
              </a:rPr>
              <a:t>(Guia Passo a Passo)</a:t>
            </a:r>
            <a:endParaRPr b="0" lang="en-US" sz="4000" spc="-1" strike="noStrike">
              <a:solidFill>
                <a:srgbClr val="000000"/>
              </a:solidFill>
              <a:latin typeface="Arial"/>
            </a:endParaRPr>
          </a:p>
        </p:txBody>
      </p:sp>
      <p:sp>
        <p:nvSpPr>
          <p:cNvPr id="17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u="sng">
                <a:solidFill>
                  <a:srgbClr val="000000"/>
                </a:solidFill>
                <a:uFillTx/>
                <a:latin typeface="Arial"/>
              </a:rPr>
              <a:t>Diariamente:</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6.     O epidemiologista-chefe distribui uma lista de contactos actualizada aos supervisores no terreno.</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Os supervisores no terreno reúnem-se com as suas equipas de identificação e distribuem a lista para cada equipa, agrupando os contactos pela proximidade geográfica.</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8.     Os investigadores reúnem-se com cada um dos contactos e realizam as seguintes tarefa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Observação da condição geral do contacto para qualquer sinal explícito da doenç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 ao contacto relativamente ao seu estado de saúde (presença ou ausência de sintomas específic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reencher o </a:t>
            </a:r>
            <a:r>
              <a:rPr b="1" lang="pt-PT" sz="2000" spc="-1" strike="noStrike">
                <a:solidFill>
                  <a:srgbClr val="000000"/>
                </a:solidFill>
                <a:latin typeface="Arial"/>
              </a:rPr>
              <a:t>Formulário de Seguimento dos Contact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erguntar se conhecem mais alguém que esteja do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189000"/>
            <a:ext cx="9001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Resumo dos Passos: DIARIAMENTE</a:t>
            </a:r>
            <a:br>
              <a:rPr sz="3600"/>
            </a:br>
            <a:r>
              <a:rPr b="0" lang="pt-PT" sz="3600" spc="-1" strike="noStrike">
                <a:solidFill>
                  <a:srgbClr val="000000"/>
                </a:solidFill>
                <a:latin typeface="Arial"/>
              </a:rPr>
              <a:t>(Guia Passo a Passo)</a:t>
            </a:r>
            <a:endParaRPr b="0" lang="en-US" sz="3600" spc="-1" strike="noStrike">
              <a:solidFill>
                <a:srgbClr val="000000"/>
              </a:solidFill>
              <a:latin typeface="Arial"/>
            </a:endParaRPr>
          </a:p>
        </p:txBody>
      </p:sp>
      <p:sp>
        <p:nvSpPr>
          <p:cNvPr id="179" name=""/>
          <p:cNvSpPr txBox="1"/>
          <p:nvPr/>
        </p:nvSpPr>
        <p:spPr>
          <a:xfrm>
            <a:off x="468360" y="1916280"/>
            <a:ext cx="8229600" cy="403200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9.    Enquanto as equipas de identificação avaliam os contactos, o supervisor no terreno fornec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poio logístico, incluindo a providência de transporte para as equipas de identificação e assegura o pagamen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ção da equipa de investigação para qualquer contacto que os investigadores identifiquem como tendo apresentado sintoma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Garantia de qualidade para assegurar a precisão dos relatórios dos investigadores.</a:t>
            </a:r>
            <a:endParaRPr b="0" lang="en-US" sz="1500" spc="-1" strike="noStrike">
              <a:solidFill>
                <a:srgbClr val="000000"/>
              </a:solidFill>
              <a:latin typeface="Arial"/>
            </a:endParaRPr>
          </a:p>
          <a:p>
            <a:pPr>
              <a:lnSpc>
                <a:spcPct val="80000"/>
              </a:lnSpc>
              <a:spcBef>
                <a:spcPts val="451"/>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o final do dia, os investigadores contactam os seus supervisores no terreno e notificam o estado dos seus contactos.</a:t>
            </a:r>
            <a:endParaRPr b="0" lang="en-US" sz="1800" spc="-1" strike="noStrike">
              <a:solidFill>
                <a:srgbClr val="000000"/>
              </a:solidFill>
              <a:latin typeface="Arial"/>
            </a:endParaRPr>
          </a:p>
          <a:p>
            <a:pPr>
              <a:lnSpc>
                <a:spcPct val="80000"/>
              </a:lnSpc>
              <a:spcBef>
                <a:spcPts val="451"/>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supervisores no terreno completam o </a:t>
            </a:r>
            <a:r>
              <a:rPr b="1" lang="pt-PT" sz="1800" spc="-1" strike="noStrike">
                <a:solidFill>
                  <a:srgbClr val="000000"/>
                </a:solidFill>
                <a:latin typeface="Arial"/>
              </a:rPr>
              <a:t>Formulário de Resumo da Identificação </a:t>
            </a:r>
            <a:r>
              <a:rPr b="0" lang="pt-PT" sz="1800" spc="-1" strike="noStrike">
                <a:solidFill>
                  <a:srgbClr val="000000"/>
                </a:solidFill>
                <a:latin typeface="Arial"/>
              </a:rPr>
              <a:t>com base na informação fornecida pelos investigadores e equipa de investigação e os dados são enviados tanto para o epidemiologista-chefe como para o gestor de dados.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12.    O gestor de dados ou pessoal de registo de dados inserem os dados electronicamente.</a:t>
            </a:r>
            <a:endParaRPr b="0" lang="en-US" sz="1800" spc="-1" strike="noStrike">
              <a:solidFill>
                <a:srgbClr val="000000"/>
              </a:solidFill>
              <a:latin typeface="Arial"/>
            </a:endParaRPr>
          </a:p>
          <a:p>
            <a:pPr>
              <a:lnSpc>
                <a:spcPct val="80000"/>
              </a:lnSpc>
              <a:spcBef>
                <a:spcPts val="451"/>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epidemiologista-chefe revê os dados e prepara a lista de contactos actuais/contínuos para o dia seguinte.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Noções básicas da Identificação de Contactos</a:t>
            </a:r>
            <a:endParaRPr b="0" lang="en-US" sz="3600" spc="-1" strike="noStrike">
              <a:solidFill>
                <a:srgbClr val="000000"/>
              </a:solidFill>
              <a:latin typeface="Arial"/>
            </a:endParaRPr>
          </a:p>
        </p:txBody>
      </p:sp>
      <p:sp>
        <p:nvSpPr>
          <p:cNvPr id="10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FINIÇÃO: o processo de identificar, controlar e gerir a EVD para eliminar a transmissã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guimento sistemático durante 21 dias após a data do último contac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eríodo máximo de incuba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STÃO DA IDENTIFICAÇÃO DE CONTACTOS</a:t>
            </a:r>
            <a:endParaRPr b="0" lang="en-US" sz="4000" spc="-1" strike="noStrike">
              <a:solidFill>
                <a:srgbClr val="000000"/>
              </a:solidFill>
              <a:latin typeface="Arial"/>
            </a:endParaRPr>
          </a:p>
        </p:txBody>
      </p:sp>
      <p:sp>
        <p:nvSpPr>
          <p:cNvPr id="18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estão de Dados</a:t>
            </a:r>
            <a:endParaRPr b="0" lang="en-US" sz="4400" spc="-1" strike="noStrike">
              <a:solidFill>
                <a:srgbClr val="000000"/>
              </a:solidFill>
              <a:latin typeface="Arial"/>
            </a:endParaRPr>
          </a:p>
        </p:txBody>
      </p:sp>
      <p:sp>
        <p:nvSpPr>
          <p:cNvPr id="18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Regista a informação relativamente a casos e contact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Produz relatórios diários, exportando-os para a análise de dad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Mapeamento geográfico dos contact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Notificação atempada de dados e tendência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Se existirem recursos e/ou infra-estruturas suficient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eve ser considerada uma recolha de dados electrónicos no terreno</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NOTA: Embora a Base de Dados VHF EpiInfo seja recomendada, outras bases de dados, como o Sistema de Gestão da Informação no Terreno da OMS (FIMS), podem ser também utilizadas.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Contratação</a:t>
            </a:r>
            <a:endParaRPr b="0" lang="en-US" sz="4400" spc="-1" strike="noStrike">
              <a:solidFill>
                <a:srgbClr val="000000"/>
              </a:solidFill>
              <a:latin typeface="Arial"/>
            </a:endParaRPr>
          </a:p>
        </p:txBody>
      </p:sp>
      <p:sp>
        <p:nvSpPr>
          <p:cNvPr id="18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siderar incentivos para particip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umentar os ordenad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seguro de saú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EPP ao pessoal e às suas família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Empregar os sobreviventes da EV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gar ao pessoal atempadam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Formação</a:t>
            </a:r>
            <a:endParaRPr b="0" lang="en-US" sz="4400" spc="-1" strike="noStrike">
              <a:solidFill>
                <a:srgbClr val="000000"/>
              </a:solidFill>
              <a:latin typeface="Arial"/>
            </a:endParaRPr>
          </a:p>
        </p:txBody>
      </p:sp>
      <p:sp>
        <p:nvSpPr>
          <p:cNvPr id="187" name=""/>
          <p:cNvSpPr txBox="1"/>
          <p:nvPr/>
        </p:nvSpPr>
        <p:spPr>
          <a:xfrm>
            <a:off x="457200" y="1197000"/>
            <a:ext cx="8229600" cy="49291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s trabalhadores necessitam de uma formação apropriada e de recursos para realizarem o seu trabalho de forma segura</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pel específico para o membro do pessoal</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Formação de reciclagem</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Nova formação caso ocorram problemas ou existam alterações aos procedimentos operacionai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ertificado formal de conclusão</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ara combater as diferenças de po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Saúde</a:t>
            </a:r>
            <a:endParaRPr b="0" lang="en-US" sz="4400" spc="-1" strike="noStrike">
              <a:solidFill>
                <a:srgbClr val="000000"/>
              </a:solidFill>
              <a:latin typeface="Arial"/>
            </a:endParaRPr>
          </a:p>
        </p:txBody>
      </p:sp>
      <p:sp>
        <p:nvSpPr>
          <p:cNvPr id="18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Fornecer cuidados médicos enquanto empregado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ncluindo para a EVD</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Deve ser abordado e rigorosamente aplicado o seguint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entrar em comunidades que aparentam ser hostis, agressivas ou pouco acolhedora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tentar impedir os contactos ou casos que estão a tentar fugir</a:t>
            </a: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eve ser notado que se os profissionais de segurança interagirem com casos suspeitos, prováveis ou confirmados, dependendo da situação, podem também corresponder à definição de contacto, necessitando por isso de um seguimento**</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Identificação</a:t>
            </a:r>
            <a:endParaRPr b="0" lang="en-US" sz="4400" spc="-1" strike="noStrike">
              <a:solidFill>
                <a:srgbClr val="000000"/>
              </a:solidFill>
              <a:latin typeface="Arial"/>
            </a:endParaRPr>
          </a:p>
        </p:txBody>
      </p:sp>
      <p:sp>
        <p:nvSpPr>
          <p:cNvPr id="19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Questões pertinentes a serem perguntada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com contacto físico direct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com contacto sexual</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que viviam com o caso na mesma habitaçã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que visitaram o caso (na habitação, unidade de saúde, funeral/enterro, etc.)</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Locais que o caso visitou (i.e. trabalho, farmácia, igreja, família alargada, curandeiros tradicionais, etc.)</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Instalações de saúde utilizadas pelo caso e por todos os profissionais de saúde que trataram do cas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74680"/>
            <a:ext cx="8964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Considerações para a Identificação do Contacto</a:t>
            </a:r>
            <a:endParaRPr b="0" lang="en-US" sz="3600" spc="-1" strike="noStrike">
              <a:solidFill>
                <a:srgbClr val="000000"/>
              </a:solidFill>
              <a:latin typeface="Arial"/>
            </a:endParaRPr>
          </a:p>
        </p:txBody>
      </p:sp>
      <p:sp>
        <p:nvSpPr>
          <p:cNvPr id="19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Utilizar calendários, feriados ou aniversários para ajudar na lembrança de activ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Quando os casos suspeitos, prováveis ou confirmados são notificados do seu estado, medo é a resposta mais prováv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poio psicossocial na equipa de investigaçã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Utilizar sensibilidade cultu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27468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Desafios da Inscrição</a:t>
            </a:r>
            <a:endParaRPr b="0" lang="en-US" sz="4400" spc="-1" strike="noStrike">
              <a:solidFill>
                <a:srgbClr val="000000"/>
              </a:solidFill>
              <a:latin typeface="Arial"/>
            </a:endParaRPr>
          </a:p>
        </p:txBody>
      </p:sp>
      <p:sp>
        <p:nvSpPr>
          <p:cNvPr id="19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safios logístic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alta de nomes de ru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Utilização de alcunh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aíses sem um programa nacional de identificaçã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sideraçõ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Identificação do contacto através de G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nvolver os líderes da comunida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Estigma</a:t>
            </a:r>
            <a:endParaRPr b="0" lang="en-US" sz="4400" spc="-1" strike="noStrike">
              <a:solidFill>
                <a:srgbClr val="000000"/>
              </a:solidFill>
              <a:latin typeface="Arial"/>
            </a:endParaRPr>
          </a:p>
        </p:txBody>
      </p:sp>
      <p:sp>
        <p:nvSpPr>
          <p:cNvPr id="197"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Medidas para ultrapassar o estigma</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Envolver e educar os líderes da comunidade relativamente à infecção e transmissão da EVD e sobre o papel da comunidade</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tilizar campanhas de comunicação da saúde precoc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tilizar apoio psicossocial precoce para combater o medo</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Determinar um local/hora de reunião “seguro” que não irá identificá-los como um contacto de EVD para os seus pares, família e/ou comunidad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RANTIA E GESTÃO DE QUALIDADE</a:t>
            </a:r>
            <a:endParaRPr b="0" lang="en-US" sz="4000" spc="-1" strike="noStrike">
              <a:solidFill>
                <a:srgbClr val="000000"/>
              </a:solidFill>
              <a:latin typeface="Arial"/>
            </a:endParaRPr>
          </a:p>
        </p:txBody>
      </p:sp>
      <p:sp>
        <p:nvSpPr>
          <p:cNvPr id="19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Objectivos da Identificação de Contactos</a:t>
            </a:r>
            <a:endParaRPr b="0" lang="en-US" sz="4000" spc="-1" strike="noStrike">
              <a:solidFill>
                <a:srgbClr val="000000"/>
              </a:solidFill>
              <a:latin typeface="Arial"/>
            </a:endParaRPr>
          </a:p>
        </p:txBody>
      </p:sp>
      <p:sp>
        <p:nvSpPr>
          <p:cNvPr id="10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Identificação imediata de indivíduos que ficam sintomáticos e, por isso, contagios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rar a transmissão da EV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Se implementada rapidamente e de forma adequ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arantia de Qualidade</a:t>
            </a:r>
            <a:endParaRPr b="0" lang="en-US" sz="4400" spc="-1" strike="noStrike">
              <a:solidFill>
                <a:srgbClr val="000000"/>
              </a:solidFill>
              <a:latin typeface="Arial"/>
            </a:endParaRPr>
          </a:p>
        </p:txBody>
      </p:sp>
      <p:sp>
        <p:nvSpPr>
          <p:cNvPr id="201"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Equipa de Investigação/Equipa de Resposta Rápida/Epidemiologista-chef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valiar casos com um baixo número de notificações de contacto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Ser cauteloso quando os números não correspondem aos de casos anteriores com características semelhantes</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Considerar novas entrevistas ao caso, família, vizinhos, etc.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Considerar incitar actividades adicionais do dia a dia</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Assegurar avaliações precisas do estado de saúde de um contacto por parte dos investigador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alizar verificações domiciliárias através da escolha aleatória de contactos de diferentes equipas de identificação para entrevistar e verificar se a avaliação do estado de saúde é semelhante aos relatórios dos investigador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arantia de Qualidade</a:t>
            </a:r>
            <a:endParaRPr b="0" lang="en-US" sz="4400" spc="-1" strike="noStrike">
              <a:solidFill>
                <a:srgbClr val="000000"/>
              </a:solidFill>
              <a:latin typeface="Arial"/>
            </a:endParaRPr>
          </a:p>
        </p:txBody>
      </p:sp>
      <p:sp>
        <p:nvSpPr>
          <p:cNvPr id="203" name=""/>
          <p:cNvSpPr txBox="1"/>
          <p:nvPr/>
        </p:nvSpPr>
        <p:spPr>
          <a:xfrm>
            <a:off x="457200" y="1197000"/>
            <a:ext cx="8229600" cy="492912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upervisor(es) no terreno</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ssegurar que os investigadores visitam os contactos diariamente</a:t>
            </a:r>
            <a:endParaRPr b="0" lang="en-US" sz="28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a tecnologia estiver disponível, utilizar uma identificação móvel através de GPS para a identificação de contactos</a:t>
            </a:r>
            <a:endParaRPr b="0" lang="en-US" sz="24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apropriado, tirar uma fotografia do contacto ou de um marco local para entregar diariamente ao técnico no terreno</a:t>
            </a:r>
            <a:endParaRPr b="0" lang="en-US" sz="24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alizar verificações domiciliárias através da escolha aleatória de contactos de diferentes equipas de identificação e entrevistá-los para assegurar que recebem diariamente a visita do investigador</a:t>
            </a:r>
            <a:endParaRPr b="0" lang="en-US" sz="2400" spc="-1" strike="noStrike">
              <a:solidFill>
                <a:srgbClr val="000000"/>
              </a:solidFill>
              <a:latin typeface="Arial"/>
            </a:endParaRPr>
          </a:p>
          <a:p>
            <a:pPr lvl="3" marL="1375920" indent="-196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 </a:t>
            </a:r>
            <a:r>
              <a:rPr b="0" lang="pt-PT" sz="2000" spc="-1" strike="noStrike">
                <a:solidFill>
                  <a:srgbClr val="000000"/>
                </a:solidFill>
                <a:latin typeface="Arial"/>
              </a:rPr>
              <a:t>Se houve falha de dias, confirmar que estes foram devidamente registados pela equipa de identificação.</a:t>
            </a:r>
            <a:endParaRPr b="0" lang="en-US" sz="20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27468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Medidas de Qualidade: Devem ser 100%</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0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clusão dos relatórios de vigilância activa semana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ontactos a serem identificados diariam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ontactos seguidos durante todos os 21 di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asos que viram a identificação de contactos implementada até 24 horas após a identificação do ca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ESCALABILIDADE</a:t>
            </a:r>
            <a:endParaRPr b="0" lang="en-US" sz="4000" spc="-1" strike="noStrike">
              <a:solidFill>
                <a:srgbClr val="000000"/>
              </a:solidFill>
              <a:latin typeface="Arial"/>
            </a:endParaRPr>
          </a:p>
        </p:txBody>
      </p:sp>
      <p:sp>
        <p:nvSpPr>
          <p:cNvPr id="2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Plano B”</a:t>
            </a:r>
            <a:endParaRPr b="0" lang="en-US" sz="4400" spc="-1" strike="noStrike">
              <a:solidFill>
                <a:srgbClr val="000000"/>
              </a:solidFill>
              <a:latin typeface="Arial"/>
            </a:endParaRPr>
          </a:p>
        </p:txBody>
      </p:sp>
      <p:sp>
        <p:nvSpPr>
          <p:cNvPr id="20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os contactos não são identificados/são perdidos, a transmissão exponencial da EVD é provável</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 protocolo de identificação de contactos deve incluir:</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ontratação de mais equipas de investigação, supervisores no terreno e investigadores de contacto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sforços concentrados principalmente nos grupos de risco elevado</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Plano B”</a:t>
            </a:r>
            <a:endParaRPr b="0" lang="en-US" sz="4400" spc="-1" strike="noStrike">
              <a:solidFill>
                <a:srgbClr val="000000"/>
              </a:solidFill>
              <a:latin typeface="Arial"/>
            </a:endParaRPr>
          </a:p>
        </p:txBody>
      </p:sp>
      <p:sp>
        <p:nvSpPr>
          <p:cNvPr id="211"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ve ser considera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ontratação de mais pesso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umentar as infra-estrutur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dquirir mais recurs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riar equipas adicionais para acomodar os crescentes esforços de controlo (i.e. equipas de desinfecção ou de enterr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Mudança de Foco</a:t>
            </a:r>
            <a:endParaRPr b="0" lang="en-US" sz="4400" spc="-1" strike="noStrike">
              <a:solidFill>
                <a:srgbClr val="000000"/>
              </a:solidFill>
              <a:latin typeface="Arial"/>
            </a:endParaRPr>
          </a:p>
        </p:txBody>
      </p:sp>
      <p:sp>
        <p:nvSpPr>
          <p:cNvPr id="21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s esforços podem começar a se centrar principalmente nos grupos de contacto de </a:t>
            </a:r>
            <a:r>
              <a:rPr b="1" lang="pt-PT" sz="3200" spc="-1" strike="noStrike">
                <a:solidFill>
                  <a:srgbClr val="000000"/>
                </a:solidFill>
                <a:latin typeface="Arial"/>
              </a:rPr>
              <a:t>risco elevado</a:t>
            </a:r>
            <a:r>
              <a:rPr b="0" lang="pt-PT" sz="3200" spc="-1" strike="noStrike">
                <a:solidFill>
                  <a:srgbClr val="000000"/>
                </a:solidFill>
                <a:latin typeface="Arial"/>
              </a:rPr>
              <a:t>, de modo a poupar recursos directos de forma apropri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classificação de risco dos contactos têm como base as orientações do CDC†.</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ÃO</a:t>
            </a:r>
            <a:endParaRPr b="0" lang="en-US" sz="4000" spc="-1" strike="noStrike">
              <a:solidFill>
                <a:srgbClr val="000000"/>
              </a:solidFill>
              <a:latin typeface="Arial"/>
            </a:endParaRPr>
          </a:p>
        </p:txBody>
      </p:sp>
      <p:sp>
        <p:nvSpPr>
          <p:cNvPr id="215"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clusão</a:t>
            </a:r>
            <a:endParaRPr b="0" lang="en-US" sz="4400" spc="-1" strike="noStrike">
              <a:solidFill>
                <a:srgbClr val="000000"/>
              </a:solidFill>
              <a:latin typeface="Arial"/>
            </a:endParaRPr>
          </a:p>
        </p:txBody>
      </p:sp>
      <p:sp>
        <p:nvSpPr>
          <p:cNvPr id="217" name=""/>
          <p:cNvSpPr txBox="1"/>
          <p:nvPr/>
        </p:nvSpPr>
        <p:spPr>
          <a:xfrm>
            <a:off x="457200" y="1197000"/>
            <a:ext cx="8229600" cy="49291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identificação de contactos é essencial para a identificação, controlo e eliminação da transmissão da EVD</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apenas um contacto não é encontrado, existe uma grande probabilidade de uma transmissão contínua</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É fundamental que a identificação de contactos seja implementada rapidamente e gerida de forma a que a resposta à EVD seja efica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Definições: CONTACTO</a:t>
            </a:r>
            <a:endParaRPr b="0" lang="en-US" sz="4400" spc="-1" strike="noStrike">
              <a:solidFill>
                <a:srgbClr val="000000"/>
              </a:solidFill>
              <a:latin typeface="Arial"/>
            </a:endParaRPr>
          </a:p>
        </p:txBody>
      </p:sp>
      <p:sp>
        <p:nvSpPr>
          <p:cNvPr id="107"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O*:</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ma pessoa que interagiu com um caso sintomático de EVD (suspeito, provável ou confirmado) em pelo menos uma das seguintes formas:</a:t>
            </a:r>
            <a:endParaRPr b="0" lang="en-US" sz="26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ntacto físico directo com o caso (morto ou vivo) enquanto estava doente</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ntacto físico directo com o caso (morto) no funeral</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ocou no sangue ou fluídos corporais do caso enquanto estava doente</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Foi amamentado pela doente (nos bebés)</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ocou nas roupas ou lençóis do caso</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ormiu na mesma habitação que um caso</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finições: CONTACTO</a:t>
            </a:r>
            <a:r>
              <a:rPr b="0" lang="pt-PT" sz="2400" spc="-1" strike="noStrike" baseline="30000">
                <a:solidFill>
                  <a:srgbClr val="000000"/>
                </a:solidFill>
                <a:latin typeface="Arial"/>
              </a:rPr>
              <a:t> †</a:t>
            </a:r>
            <a:r>
              <a:rPr b="0" lang="pt-PT" sz="2400" spc="-1" strike="noStrike">
                <a:solidFill>
                  <a:srgbClr val="000000"/>
                </a:solidFill>
                <a:latin typeface="Arial"/>
              </a:rPr>
              <a:t> </a:t>
            </a:r>
            <a:br>
              <a:rPr sz="2400"/>
            </a:br>
            <a:r>
              <a:rPr b="0" lang="pt-PT" sz="2400" spc="-1" strike="noStrike">
                <a:solidFill>
                  <a:srgbClr val="000000"/>
                </a:solidFill>
                <a:latin typeface="Arial"/>
              </a:rPr>
              <a:t>(Risco Elevado vs. Baixo Risco)</a:t>
            </a:r>
            <a:endParaRPr b="0" lang="en-US" sz="2400" spc="-1" strike="noStrike">
              <a:solidFill>
                <a:srgbClr val="000000"/>
              </a:solidFill>
              <a:latin typeface="Arial"/>
            </a:endParaRPr>
          </a:p>
        </p:txBody>
      </p:sp>
      <p:sp>
        <p:nvSpPr>
          <p:cNvPr id="10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Risco Elevado</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osição da membrana percutânea ou mucosa a sangue ou fluídos corporais de um doente com EVD</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irecto da pele com, ou exposição a sangue ou fluídos corporais de, um doente confirmado ou suspeito de EVD sem um equipamento de protecção pessoal (EPP) apropriad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Processar sangue ou fluídos corporais de um doente confirmado de EVD sem EPP apropriado ou sem precauções convencionais de biosseguranç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irecto com um cadáver sem EPP apropriado num país onde está a ocorrer um surto de EVD</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Baixo Risco</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omiciliário com um doente de EVD</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próximo com doentes de EVD em unidades de saúde ou contextos comunitários. </a:t>
            </a:r>
            <a:endParaRPr b="0" lang="en-US" sz="15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Estar aproximadamente a 1 metro de um doente com EVD ou dentro do quarto ou área de cuidados do doente durante um período prolongado de tempo (por exemplo, funcionários dos cuidados de saúde, membros do agregado familiar) sem utilizar equipamento de protecção pessoal recomendado. </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Ter contacto directo breve (por exemplo, apertar as mãos) com um doente de EVD sem utilizar equipamento de protecção pessoal recomendado. </a:t>
            </a: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0560" y="274680"/>
            <a:ext cx="8713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Três categorias de casos de EVD</a:t>
            </a:r>
            <a:endParaRPr b="0" lang="en-US" sz="44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suspeito: uma pessoa, morta ou viva, com pelo menos um dos seguintes critério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ausa desconhecida de hemorragia</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ausa desconhecida de morte súbita </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omeço repentino de febre elevada e contacto com:</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Um caso de EVD suspeito, provável ou confirmado</a:t>
            </a:r>
            <a:endParaRPr b="0" lang="en-US" sz="1100" spc="-1" strike="noStrike">
              <a:solidFill>
                <a:srgbClr val="000000"/>
              </a:solidFill>
              <a:latin typeface="Arial"/>
            </a:endParaRPr>
          </a:p>
          <a:p>
            <a:pPr lvl="2" marL="1143000" indent="-228600">
              <a:lnSpc>
                <a:spcPct val="80000"/>
              </a:lnSpc>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ou</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Um animal doente ou morto</a:t>
            </a:r>
            <a:endParaRPr b="0" lang="en-US" sz="11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omeço repentino de febre elevada e pelo menos três dos seguintes sintomas:</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de cabeç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Anorexia / perda de apetit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Letargi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nos músculos ou articulaçõe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ficuldades em respira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Vómito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arrei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no estômago</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ficuldade em engoli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Soluço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provável: qualquer caso suspeito que cumpra os seguintes critério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Avaliado por um médico e diagnosticado com EVD</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O caso faleceu mas com uma ligação epidemiológica a um caso confirmado</a:t>
            </a:r>
            <a:br>
              <a:rPr sz="1300"/>
            </a:br>
            <a:r>
              <a:rPr b="0" lang="pt-PT"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confirmado:</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Qualquer caso suspeito ou provável com um resultado laboratorial de EVD positivo (PCR ou serologi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EPARATIVOS</a:t>
            </a:r>
            <a:endParaRPr b="0" lang="en-US" sz="4000" spc="-1" strike="noStrike">
              <a:solidFill>
                <a:srgbClr val="000000"/>
              </a:solidFill>
              <a:latin typeface="Arial"/>
            </a:endParaRPr>
          </a:p>
        </p:txBody>
      </p:sp>
      <p:sp>
        <p:nvSpPr>
          <p:cNvPr id="113"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User</cp:lastModifiedBy>
  <cp:lastPrinted>2013-10-01T07:19:12Z</cp:lastPrinted>
  <dcterms:modified xsi:type="dcterms:W3CDTF">2014-11-29T11:44:14Z</dcterms:modified>
  <cp:revision>214</cp:revision>
  <dc:subject/>
  <dc:title>DPC Training and Technical Update</dc:title>
</cp:coreProperties>
</file>